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applause.wav" ContentType="audio/x-wav"/>
  <Override PartName="/ppt/media/image16.png" ContentType="image/png"/>
  <Override PartName="/ppt/media/drumroll.wav" ContentType="audio/x-wav"/>
  <Override PartName="/ppt/media/image17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jpeg" ContentType="image/jpeg"/>
  <Override PartName="/ppt/media/image10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FF7-5BBF-4DFD-A08C-C330A243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B48C-7C12-480C-B4F1-7B8FDD6F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8C4-F45E-4925-8FFB-98B263E1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49E-A4C7-4222-B7FF-F7E2969F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AE89-7692-4061-A01D-98F3977B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573EB-CD7C-4D7D-8B61-401C58A4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FC32-F278-4954-8EC8-27688E70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0DC3-13C7-4455-9204-8BEACC6E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954D-9ED9-4C9F-9F8F-E0D1274D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6C5A-2BE6-46ED-B267-5B65DBA1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B61C-30E9-4948-B009-F9C6390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F8B-272B-432C-8EA3-323C20A3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1561-2E09-4FF9-9682-F1F12831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4007-3E75-448A-94DB-B5E793FB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48FC-D4FD-4DD4-A7CF-B81BCB78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FD4B-DEB7-4370-95A3-614A422C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6E45-EABF-44A3-8F1C-5351A312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9F80-FE85-4AF1-98D8-D2B6ABBC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550-3FFB-4BC0-8C16-5052EFD7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BE6-84EB-4D79-9EF1-B39E78A8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2DE-F9B4-4E4A-8A1C-0E79EED0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797-B964-4144-9C5B-AF5FE835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B70-7F83-4316-9072-835D0C45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9FD-3A2E-4EB8-9E9A-80E6A86D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FDE8-43BD-4B8D-95B1-B8EF70188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029B-6AB7-423D-B9F5-50C90581B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59436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Ch'I-lin Purs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7" descr="THE CH'I-LIN PURSE"/>
          <p:cNvPicPr/>
          <p:nvPr/>
        </p:nvPicPr>
        <p:blipFill>
          <a:blip r:embed="rId1"/>
          <a:stretch/>
        </p:blipFill>
        <p:spPr>
          <a:xfrm>
            <a:off x="5951520" y="152280"/>
            <a:ext cx="29829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504960" y="19047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worthy of reverence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114800" y="457200"/>
            <a:ext cx="327672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8620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erson who has given money or kindly help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809880" y="609480"/>
            <a:ext cx="38102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5" descr="MCBD05543_0000[1]"/>
          <p:cNvPicPr/>
          <p:nvPr/>
        </p:nvPicPr>
        <p:blipFill>
          <a:blip r:embed="rId1"/>
          <a:stretch/>
        </p:blipFill>
        <p:spPr>
          <a:xfrm>
            <a:off x="152280" y="1523880"/>
            <a:ext cx="3575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eacher said that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ehavi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the hallway was gre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ay of act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teachers observ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1219320" y="3809880"/>
            <a:ext cx="5943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family considers this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acr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k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ress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2895480" y="3657600"/>
            <a:ext cx="3048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e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stonish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the prizes they gave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liev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rpris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4495680"/>
            <a:ext cx="24386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decided to express 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ratitu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car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ankfuln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sponsibilit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286000" y="3657600"/>
            <a:ext cx="4038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’ll start the program after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roces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o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marching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roup singing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295280" y="3733920"/>
            <a:ext cx="62485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assisted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stribu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pamphle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ign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ing out in shar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752480" y="457200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comme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atching that dv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ugg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f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666880" y="3276720"/>
            <a:ext cx="3276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219320"/>
            <a:ext cx="365760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80880" y="2209680"/>
            <a:ext cx="28195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04920" y="3352680"/>
            <a:ext cx="373356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457200" y="4495680"/>
            <a:ext cx="380988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762120" y="5562720"/>
            <a:ext cx="373356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419720" y="1295280"/>
            <a:ext cx="3886200" cy="7621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419720" y="2286000"/>
            <a:ext cx="37335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876920" y="5181480"/>
            <a:ext cx="350496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876920" y="3657600"/>
            <a:ext cx="2971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504960" y="19047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ustoms or beliefs handed down from generation to gener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962520" y="457200"/>
            <a:ext cx="34290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MCj04322510000[1]"/>
          <p:cNvPicPr/>
          <p:nvPr/>
        </p:nvPicPr>
        <p:blipFill>
          <a:blip r:embed="rId1"/>
          <a:stretch/>
        </p:blipFill>
        <p:spPr>
          <a:xfrm>
            <a:off x="609480" y="685800"/>
            <a:ext cx="2286000" cy="1739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MCj04351310000[1]"/>
          <p:cNvPicPr/>
          <p:nvPr/>
        </p:nvPicPr>
        <p:blipFill>
          <a:blip r:embed="rId2"/>
          <a:stretch/>
        </p:blipFill>
        <p:spPr>
          <a:xfrm>
            <a:off x="228600" y="2514600"/>
            <a:ext cx="1635120" cy="1841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MPj02899260000[1]"/>
          <p:cNvPicPr/>
          <p:nvPr/>
        </p:nvPicPr>
        <p:blipFill>
          <a:blip r:embed="rId3"/>
          <a:stretch/>
        </p:blipFill>
        <p:spPr>
          <a:xfrm>
            <a:off x="2209680" y="4191120"/>
            <a:ext cx="1782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5232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manner of behaving; way of act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86200" y="609480"/>
            <a:ext cx="37339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8" descr="MPj04309860000[1]"/>
          <p:cNvPicPr/>
          <p:nvPr/>
        </p:nvPicPr>
        <p:blipFill>
          <a:blip r:embed="rId1"/>
          <a:stretch/>
        </p:blipFill>
        <p:spPr>
          <a:xfrm>
            <a:off x="304920" y="1600200"/>
            <a:ext cx="342900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MCj04377890000[1]"/>
          <p:cNvPicPr/>
          <p:nvPr/>
        </p:nvPicPr>
        <p:blipFill>
          <a:blip r:embed="rId2"/>
          <a:stretch/>
        </p:blipFill>
        <p:spPr>
          <a:xfrm>
            <a:off x="6019920" y="4724280"/>
            <a:ext cx="1828800" cy="1870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MCj04378030000[1]"/>
          <p:cNvPicPr/>
          <p:nvPr/>
        </p:nvPicPr>
        <p:blipFill>
          <a:blip r:embed="rId3"/>
          <a:stretch/>
        </p:blipFill>
        <p:spPr>
          <a:xfrm>
            <a:off x="2362320" y="4572000"/>
            <a:ext cx="18604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657600" y="20570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ct or process of giving some of to each; dividing and giving out in sha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581280" y="609480"/>
            <a:ext cx="40388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MCj03916920000[1]"/>
          <p:cNvPicPr/>
          <p:nvPr/>
        </p:nvPicPr>
        <p:blipFill>
          <a:blip r:embed="rId1"/>
          <a:stretch/>
        </p:blipFill>
        <p:spPr>
          <a:xfrm>
            <a:off x="304920" y="2057400"/>
            <a:ext cx="3274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surprised greatly; amazed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657600" y="304920"/>
            <a:ext cx="38098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MCj04174620000[1]"/>
          <p:cNvPicPr/>
          <p:nvPr/>
        </p:nvPicPr>
        <p:blipFill>
          <a:blip r:embed="rId1"/>
          <a:stretch/>
        </p:blipFill>
        <p:spPr>
          <a:xfrm>
            <a:off x="6629400" y="4800600"/>
            <a:ext cx="1481040" cy="1789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MPj04224030000[1]"/>
          <p:cNvPicPr/>
          <p:nvPr/>
        </p:nvPicPr>
        <p:blipFill>
          <a:blip r:embed="rId2"/>
          <a:stretch/>
        </p:blipFill>
        <p:spPr>
          <a:xfrm>
            <a:off x="380880" y="228600"/>
            <a:ext cx="2606760" cy="3733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MPj03864000000[1]"/>
          <p:cNvPicPr/>
          <p:nvPr/>
        </p:nvPicPr>
        <p:blipFill>
          <a:blip r:embed="rId3"/>
          <a:stretch/>
        </p:blipFill>
        <p:spPr>
          <a:xfrm>
            <a:off x="838080" y="4267080"/>
            <a:ext cx="365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Kindly feeling because of a favor received; desire to do a favor in return;  thankfulnes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809880" y="3049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8" descr="MPj04222920000[1]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657240" y="16761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something that moves forward; persons marching or riding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9880" y="457200"/>
            <a:ext cx="388620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Picture 11" descr="MCj00788170000[1]"/>
          <p:cNvPicPr/>
          <p:nvPr/>
        </p:nvPicPr>
        <p:blipFill>
          <a:blip r:embed="rId1"/>
          <a:stretch/>
        </p:blipFill>
        <p:spPr>
          <a:xfrm>
            <a:off x="685800" y="6094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MCj04106890000[1]"/>
          <p:cNvPicPr/>
          <p:nvPr/>
        </p:nvPicPr>
        <p:blipFill>
          <a:blip r:embed="rId2"/>
          <a:stretch/>
        </p:blipFill>
        <p:spPr>
          <a:xfrm>
            <a:off x="533520" y="2666880"/>
            <a:ext cx="297180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o speak in favor of; suggest favorabl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657600" y="304920"/>
            <a:ext cx="38098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304920"/>
            <a:ext cx="2895840" cy="4572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havi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nefact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atitu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mm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c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7" descr="MPj04332020000[1]"/>
          <p:cNvPicPr/>
          <p:nvPr/>
        </p:nvPicPr>
        <p:blipFill>
          <a:blip r:embed="rId1"/>
          <a:stretch/>
        </p:blipFill>
        <p:spPr>
          <a:xfrm>
            <a:off x="533520" y="1219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MCj04348590000[1]"/>
          <p:cNvPicPr/>
          <p:nvPr/>
        </p:nvPicPr>
        <p:blipFill>
          <a:blip r:embed="rId2"/>
          <a:stretch/>
        </p:blipFill>
        <p:spPr>
          <a:xfrm>
            <a:off x="2590920" y="441972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Lynne M. Gorman</cp:lastModifiedBy>
  <dcterms:modified xsi:type="dcterms:W3CDTF">2012-01-27T15:36:56Z</dcterms:modified>
  <cp:revision>46</cp:revision>
  <dc:subject/>
  <dc:title>Frindle Vocabulary Words</dc:title>
</cp:coreProperties>
</file>